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2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E0F-61FA-4FBF-A3C9-F09E1365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6C1-B06F-4AE9-B4DB-9F4EF299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0E2-8B40-4723-8C05-5CDF4162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088-67EC-4065-A69A-B2314220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BDD-1E11-426A-BB18-7B212F4A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906-EF63-4E46-BEB4-D093130A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D56-7EEF-482D-AB3A-E1777E51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FFF-C6E9-457A-821C-203CB5CA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041-141F-46ED-9DAC-5C5F2C89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283-84B5-4F75-8CCE-3BF457B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3F5-CE52-41EB-AD02-343DCB73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E6B-024B-46D5-993F-97251843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397B-7262-4DC6-8E9F-8887745AB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685800"/>
            <a:ext cx="6324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isto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of the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Ato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22860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28800" y="160020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495680" y="152388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315200" y="152388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28800" y="4724280"/>
            <a:ext cx="1676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495680" y="472428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315200" y="464832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752480" y="2209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-37=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52480" y="2895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-1=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41972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-7=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419720" y="2819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+3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7238880" y="2209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-13=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7238880" y="2819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-3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1828800" y="5410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-17=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82880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+1=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495680" y="5334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-12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44956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-2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7315200" y="5257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2-51=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723888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+4=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609480" y="3808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Valence Electr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175248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 are found on the outside ring of the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out how many valence electrons there are on an atom: look at the periodic table, find the element, and find the number at the top of the colum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0" t="6751" r="0" b="27017"/>
          <a:stretch/>
        </p:blipFill>
        <p:spPr>
          <a:xfrm>
            <a:off x="3200400" y="3930480"/>
            <a:ext cx="5308560" cy="292752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>
            <a:off x="5791320" y="41911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3962520" y="4191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95288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ewis Dot Structu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752480"/>
            <a:ext cx="82296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Dot Structures are the visual representation of the number of valence electrons found on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t on a Lewis Dot Structure represents one valence elec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periodic table to determine how many valence electrons the atom has, and then start drawing dots around the element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when you draw dots, start with one on each side, if there is more than 4, start doubling the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808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s of Lewis Dot Stru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00200" y="1676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962520" y="16765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5880" y="16765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1981080" y="1676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2670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47242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4852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6705720" y="1905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62485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59436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647712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67057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64771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33520" y="2819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447920" y="3733920"/>
            <a:ext cx="685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808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s of Lewis Dot Stru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600200" y="1676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62520" y="16765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095880" y="16765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81080" y="1676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42670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47242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624852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705720" y="1905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62485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59436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647712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67057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64771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33520" y="2819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47920" y="3733920"/>
            <a:ext cx="685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182880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21"/>
          <p:cNvSpPr/>
          <p:nvPr/>
        </p:nvSpPr>
        <p:spPr>
          <a:xfrm>
            <a:off x="388620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22"/>
          <p:cNvSpPr/>
          <p:nvPr/>
        </p:nvSpPr>
        <p:spPr>
          <a:xfrm>
            <a:off x="4267080" y="3962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3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24"/>
          <p:cNvSpPr/>
          <p:nvPr/>
        </p:nvSpPr>
        <p:spPr>
          <a:xfrm>
            <a:off x="36576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5"/>
          <p:cNvSpPr/>
          <p:nvPr/>
        </p:nvSpPr>
        <p:spPr>
          <a:xfrm>
            <a:off x="411480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6"/>
          <p:cNvSpPr/>
          <p:nvPr/>
        </p:nvSpPr>
        <p:spPr>
          <a:xfrm>
            <a:off x="62485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7"/>
          <p:cNvSpPr/>
          <p:nvPr/>
        </p:nvSpPr>
        <p:spPr>
          <a:xfrm>
            <a:off x="6781680" y="3886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8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9"/>
          <p:cNvSpPr/>
          <p:nvPr/>
        </p:nvSpPr>
        <p:spPr>
          <a:xfrm>
            <a:off x="594360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0"/>
          <p:cNvSpPr/>
          <p:nvPr/>
        </p:nvSpPr>
        <p:spPr>
          <a:xfrm>
            <a:off x="64771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59436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1722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6705720" y="5943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6324480" y="6324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7"/>
          <p:cNvSpPr/>
          <p:nvPr/>
        </p:nvSpPr>
        <p:spPr>
          <a:xfrm>
            <a:off x="5943600" y="6019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8"/>
          <p:cNvSpPr/>
          <p:nvPr/>
        </p:nvSpPr>
        <p:spPr>
          <a:xfrm>
            <a:off x="64008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39"/>
          <p:cNvSpPr/>
          <p:nvPr/>
        </p:nvSpPr>
        <p:spPr>
          <a:xfrm>
            <a:off x="6705720" y="6172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40"/>
          <p:cNvSpPr/>
          <p:nvPr/>
        </p:nvSpPr>
        <p:spPr>
          <a:xfrm>
            <a:off x="3962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41"/>
          <p:cNvSpPr/>
          <p:nvPr/>
        </p:nvSpPr>
        <p:spPr>
          <a:xfrm>
            <a:off x="1676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42"/>
          <p:cNvSpPr/>
          <p:nvPr/>
        </p:nvSpPr>
        <p:spPr>
          <a:xfrm>
            <a:off x="1905120" y="6019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3"/>
          <p:cNvSpPr/>
          <p:nvPr/>
        </p:nvSpPr>
        <p:spPr>
          <a:xfrm>
            <a:off x="1600200" y="6400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44"/>
          <p:cNvSpPr/>
          <p:nvPr/>
        </p:nvSpPr>
        <p:spPr>
          <a:xfrm>
            <a:off x="1295280" y="6019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45"/>
          <p:cNvSpPr/>
          <p:nvPr/>
        </p:nvSpPr>
        <p:spPr>
          <a:xfrm>
            <a:off x="4267080" y="4191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6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295280" y="685800"/>
            <a:ext cx="6324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isto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of the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Ato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457200" y="457200"/>
            <a:ext cx="82296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ohn Dalton's Atomic The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144792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ll know Dal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tomic Theory…that all matter is made of atoms; atoms cannot be broken down; and atoms with different numbers of protons are not the same ele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alton also made an atomic model.  He thought an atom was 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809880" y="3886200"/>
            <a:ext cx="472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ton did not know that there were parts of an ato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thought that the atom was the smallest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just thought atoms were different because of size and m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304920" y="38088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Joseph John Thompson's Atomic The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85800" y="1295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ph John Thompson believed that electrons were inside a positively charged 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5651280" cy="4292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6248520" y="2362320"/>
            <a:ext cx="26668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the first model of an atom that had positive and negative charg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recognized the (-) electron, but he did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know that the nucleus has 2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991040" cy="1117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5003640" cy="2006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380880" y="15228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JJ Thompson know the atom is (+) and (-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used a cathode ray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039920" y="2895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03992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04920" y="1676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----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2860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--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5720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toms moved through the tube, they moves up because they were (+), to the (-) plate.  Remember + and - attra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2870280" cy="105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"/>
          <p:cNvPicPr/>
          <p:nvPr/>
        </p:nvPicPr>
        <p:blipFill>
          <a:blip r:embed="rId4"/>
          <a:stretch/>
        </p:blipFill>
        <p:spPr>
          <a:xfrm>
            <a:off x="7086600" y="2666880"/>
            <a:ext cx="16128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304920" y="380880"/>
            <a:ext cx="8381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Ernest Rutherford's Atomic Theor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33520" y="1600200"/>
            <a:ext cx="78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nest Rutherford believed that an atom had a positive nucleus with electrons around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odel was close to correct, but Rutherford believed that all the electrons were inside a sphere around the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120760" cy="306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5"/>
          <a:stretch/>
        </p:blipFill>
        <p:spPr>
          <a:xfrm>
            <a:off x="2590920" y="3809880"/>
            <a:ext cx="3035160" cy="12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914400" y="990720"/>
            <a:ext cx="65530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Review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of th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Atom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2"/>
          <p:cNvSpPr txBox="1"/>
          <p:nvPr/>
        </p:nvSpPr>
        <p:spPr>
          <a:xfrm>
            <a:off x="304920" y="30492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Rutherford's Gold Foil Experimen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4927680" cy="3436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4876920" y="2590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therford had discovered that the nucleus has 2 par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523880" y="5638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found out the nucleus is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4"/>
          <a:stretch/>
        </p:blipFill>
        <p:spPr>
          <a:xfrm>
            <a:off x="6324480" y="4086360"/>
            <a:ext cx="2819520" cy="277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80880" y="380880"/>
            <a:ext cx="8153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Niels Bohr's Atomic Theor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152388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s Bohr believed that each electron circled the nucleus in a fixed orb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believed that only one electron occupied each orbit and could not move from orbit to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41148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531200" y="1905120"/>
            <a:ext cx="1612800" cy="1604880"/>
          </a:xfrm>
          <a:prstGeom prst="rect">
            <a:avLst/>
          </a:prstGeom>
          <a:ln w="0">
            <a:noFill/>
          </a:ln>
        </p:spPr>
      </p:pic>
      <p:pic>
        <p:nvPicPr>
          <p:cNvPr id="230" name="bohratom.gif" descr="FIRELITE:Curriculum Stuff:Chemistry:*Chemistry:Movie GIFs:bohratom.gif"/>
          <p:cNvPicPr/>
          <p:nvPr/>
        </p:nvPicPr>
        <p:blipFill>
          <a:blip r:embed="rId3"/>
          <a:stretch/>
        </p:blipFill>
        <p:spPr>
          <a:xfrm>
            <a:off x="6172200" y="4092480"/>
            <a:ext cx="2971800" cy="2765520"/>
          </a:xfrm>
          <a:prstGeom prst="rect">
            <a:avLst/>
          </a:prstGeom>
          <a:ln w="0">
            <a:noFill/>
          </a:ln>
        </p:spPr>
      </p:pic>
      <p:pic>
        <p:nvPicPr>
          <p:cNvPr id="231" name="bohratom2.gif" descr="FIRELITE:Curriculum Stuff:Chemistry:*Chemistry:Movie GIFs:bohratom2.gif"/>
          <p:cNvPicPr/>
          <p:nvPr/>
        </p:nvPicPr>
        <p:blipFill>
          <a:blip r:embed="rId4"/>
          <a:stretch/>
        </p:blipFill>
        <p:spPr>
          <a:xfrm>
            <a:off x="2971800" y="4308480"/>
            <a:ext cx="2590920" cy="254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9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304920" y="380880"/>
            <a:ext cx="8534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e Electron Cloud Mode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743200" cy="2844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648320" y="2895480"/>
            <a:ext cx="4254480" cy="36514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3581280" y="137160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know that electrons move in a cloud around the nucleus.  There are different levels to the cloud and electrons can move between the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04920" y="4343400"/>
            <a:ext cx="41907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is a picture of what the different electron orbital clouds actually look like, take with an electron microsc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, we still draw atoms using the Bohr model for 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533520" y="304920"/>
            <a:ext cx="81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e Atomic Mode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168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the inside ring (orbital) can hold only up to 2 electrons.  The next ring can hold up to 8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609480"/>
            <a:ext cx="25146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791320" y="609480"/>
            <a:ext cx="25146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62120" y="3733920"/>
            <a:ext cx="25146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219320" y="13716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400800" y="1600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600200" y="48006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1440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867280" y="762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14400" y="6095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2193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4771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447920" y="4038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391520" y="762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29528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8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3276720" y="8380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8"/>
          <p:cNvSpPr/>
          <p:nvPr/>
        </p:nvSpPr>
        <p:spPr>
          <a:xfrm flipH="1">
            <a:off x="2285640" y="26668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9"/>
          <p:cNvSpPr/>
          <p:nvPr/>
        </p:nvSpPr>
        <p:spPr>
          <a:xfrm flipV="1">
            <a:off x="4952880" y="1066320"/>
            <a:ext cx="25146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1371600" y="106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 flipV="1">
            <a:off x="5410080" y="9903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 flipH="1">
            <a:off x="2438280" y="1600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5486400" y="16002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 flipH="1">
            <a:off x="236196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5181480" y="213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733920" y="419112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7"/>
          <p:cNvSpPr/>
          <p:nvPr/>
        </p:nvSpPr>
        <p:spPr>
          <a:xfrm flipH="1" flipV="1">
            <a:off x="2362320" y="4267080"/>
            <a:ext cx="1371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8"/>
          <p:cNvSpPr/>
          <p:nvPr/>
        </p:nvSpPr>
        <p:spPr>
          <a:xfrm flipH="1" flipV="1">
            <a:off x="2514600" y="48002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 flipH="1" flipV="1">
            <a:off x="2286000" y="533376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 flipH="1">
            <a:off x="1294920" y="6019920"/>
            <a:ext cx="2514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5943600" y="35812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, each periodic table may be a little different.  The upper left is from the poster, the upper right is from your agenda, the lower left is from the big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1936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tomic number equals the number of protons in an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# = #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1017360" cy="1397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2209680" y="13716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# = 11   # Protons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 flipH="1" flipV="1">
            <a:off x="1676520" y="15238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2"/>
          <a:srcRect l="0" t="15655" r="0" b="0"/>
          <a:stretch/>
        </p:blipFill>
        <p:spPr>
          <a:xfrm>
            <a:off x="1066680" y="3800520"/>
            <a:ext cx="1017720" cy="1177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2286000" y="4114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 = 22.99 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1905120" y="4343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4382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- 11 = 12 = #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971800" y="6400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protons = 11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04920" y="50292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om, the number of electrons is equal to the number of pro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protons = #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04920" y="2514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tomic mass, minus the atomic number, equals the number of neutrons in an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 - atomic # = #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3"/>
          <p:cNvSpPr/>
          <p:nvPr/>
        </p:nvSpPr>
        <p:spPr>
          <a:xfrm>
            <a:off x="304920" y="380880"/>
            <a:ext cx="8458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744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87080" y="2057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-10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8744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9436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94360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2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943600" y="259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13372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20968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-54 = 7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04920" y="380880"/>
            <a:ext cx="8458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#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28600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8672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867280" y="4800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2-86 = 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867280" y="5334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igure out the number of electrons in an 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1066680"/>
            <a:ext cx="8305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positively charged, the ion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ions are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negatively charged, the ion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ons ar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356076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an anion (-), the atomic number plus the charge equals the number of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# +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#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335232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3200040" y="62485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04920" y="52704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tom is a cation (+), the atomic number minus the charge equals the number of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#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#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22860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p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9:55:16Z</dcterms:created>
  <dc:creator>Rebekah Marchilena</dc:creator>
  <dc:description/>
  <dc:language>en-US</dc:language>
  <cp:lastModifiedBy>IT</cp:lastModifiedBy>
  <cp:lastPrinted>2008-01-16T18:10:33Z</cp:lastPrinted>
  <dcterms:modified xsi:type="dcterms:W3CDTF">2014-11-24T12:39:26Z</dcterms:modified>
  <cp:revision>5</cp:revision>
  <dc:subject/>
  <dc:title>PowerPoint Presentation</dc:title>
</cp:coreProperties>
</file>